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3232-C171-4EDA-BF53-D490688927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ead, the people prefers private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e willing to defend our liberty in case it were threatened? Are we “corrupt” in Machiavelli’s te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I.e., how do you ensure that they are willing to defend the institutions that make them free and their country against external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ey ceremonies of Roman religion were th aug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a, religion in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I.10 of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is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damental problem of politics is really the problem of conflict, internal and ex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hiavelli: people become bored with the good, hence act malici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is the model not for Ciceronian reasons, but for new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 give the upper hand to one of the two humours in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epend on the exceptional skill of individuals, and are sustained by few, rather than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liberty mean, for Machiavell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have liberty for both groups at o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 with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lict does not mean “division” – there is a right kind and a wrong kind of conflict. The republican conflict is grounded in the overarching love of all for  the institutions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Z vs. US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8EF9-DABF-4F1F-AC57-A7990CD7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4648-EDFB-4198-95B4-A27F9A89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BA55-F04A-46ED-9E9D-37F93226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2D27-A73E-46E2-8056-2674B114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F95A-B44D-4458-8F94-408A205C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801A-87C6-462E-AC18-F43DB267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50F8-A484-4C22-AB73-A6702E1C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75C-FC63-4F1A-AE5E-DF512541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57AB-32B2-4A7F-8BD5-1C6BF9DC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E71F-809A-42E4-98E5-8D6D10FF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24BB-02C2-4F40-BB30-954E7456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FD4-494A-4FF5-B82B-393659AC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4B70-BE24-44F8-9290-420B396DC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avel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August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2158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uption and lib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ople is corrupt when it no longer defends the institutions that guarantee its lib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uption and lib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uption means internal instability and external d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ional conflict and accumulations of power rather than conflict between the two hum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ve of private advantage rather than love of country means the Republic becomes easier prey for outside ene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uption and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security can produce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547236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problem of corru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ensure that the people are not corrup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n for Machiavelli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men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civic life: it is necessary to prevent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hristianity useful to civic lif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s of Christianity encourage private life, humility, and contemplation, not public spirit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urch is corrupt: it gives a bad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36576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Roman religion adequ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encouraged public spiritedness and public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encouraged a certain savagery through animal sacrif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enabled skilled leaders to manipulate the people for useful 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8320" y="2384280"/>
            <a:ext cx="403848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theless, Roman religion could also become corrupted: when the auguries started to speak with the voice of the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avelli’s “pagan”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anity values “private”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pagans” valued public life: honor, freedom,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two value systems are incompatible: one must cho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ry and fo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serves prai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rs of reli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rs of republics or of long-lived kingd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have enlarged their ow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 of arts and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serves bl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royers of religion, republics, kingdoms,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bility of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ty is resilience in the face of internal and external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e as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967120" y="1695600"/>
            <a:ext cx="320976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nding Republ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cessity of a “prince” to found an enduring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men who are also bad: these are r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 who are willing to be bad but who also look towards the common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 who do not try to establish hereditary succession but institutions which are supported by 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mes are justified for the sake of creation, not of ruin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nding republ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rder of Re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8320" y="2492280"/>
            <a:ext cx="40384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“humours” in every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ople want not to be oppressed: they want security for their private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nobles” – the ambitious and rich – want to op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necessarily in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ilience in the face of internal confli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” political regimes are either unstable or otherwise tyran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st regime is republican: it is a mixed regime that is both stable and preserves lib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 not give the upper hand to an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sustained by the efforts of many rather than the skill of f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ty means two different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eople, it means security (the ability to enjoy private 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“nobles”, it means the ability to command and engage in enterprises that will bring them power and gl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imple regimes, liberty for one group means oppression for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erty and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republic, institutions are set up so that the ambitious competition of the “nobles” does not result in the oppression of 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harmony, but the right sort of internal conflict, is necessary to maintain lib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Liberty and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ublic indictments vs. false accu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conflict: Republics and emp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ice vs.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2914920" cy="218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003640" y="256536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ld is a dangerous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sort of internal conflict sustains the ability of republics to defend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22:25:39Z</dcterms:created>
  <dc:creator>Full Name</dc:creator>
  <dc:description/>
  <dc:language>en-US</dc:language>
  <cp:lastModifiedBy>Full Name</cp:lastModifiedBy>
  <dcterms:modified xsi:type="dcterms:W3CDTF">2008-08-14T20:53:01Z</dcterms:modified>
  <cp:revision>5</cp:revision>
  <dc:subject/>
  <dc:title>Machiavelli</dc:title>
</cp:coreProperties>
</file>